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66B-24F6-4439-A125-F68A62C9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EFB-A4A7-48F7-96E0-7F6AAB75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99B-7519-4376-899D-950892A1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578-DAD2-4459-82E2-901414B8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57A-90F1-4AD0-8338-631B291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CFB-B86A-43FD-BE28-1C6DEFF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D27-F24A-494A-89CD-0D1321F5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13F-0ED3-4C73-932D-16F973D6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B4F-C515-4680-8D0B-DEEE69A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2F-857C-4D1D-A294-14160A0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4CE-ECE6-4322-9FBF-B9F6AD6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1E3-0D40-483F-95B2-5D5B353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D7A-3832-4A29-98E6-D8C2F30DE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845820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7"/>
          <p:cNvSpPr/>
          <p:nvPr/>
        </p:nvSpPr>
        <p:spPr>
          <a:xfrm flipV="1">
            <a:off x="227880" y="1523880"/>
            <a:ext cx="3240" cy="2438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-3240" y="137160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48: 4 million  Ge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3"/>
          <p:cNvSpPr/>
          <p:nvPr/>
        </p:nvSpPr>
        <p:spPr>
          <a:xfrm flipV="1">
            <a:off x="3962520" y="1600200"/>
            <a:ext cx="2880" cy="2362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3195360" y="205740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92: Ellis island o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V="1">
            <a:off x="3428280" y="2285640"/>
            <a:ext cx="3240" cy="1676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800880" y="137160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0: population reaches 76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2"/>
          <p:cNvSpPr/>
          <p:nvPr/>
        </p:nvSpPr>
        <p:spPr>
          <a:xfrm flipV="1">
            <a:off x="685080" y="2057400"/>
            <a:ext cx="3240" cy="1905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51440" y="18288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62: congress passes the first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6"/>
          <p:cNvSpPr/>
          <p:nvPr/>
        </p:nvSpPr>
        <p:spPr>
          <a:xfrm flipV="1">
            <a:off x="4342680" y="2819160"/>
            <a:ext cx="3240" cy="11430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187520" y="259092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5: 1 million  P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0"/>
          <p:cNvSpPr/>
          <p:nvPr/>
        </p:nvSpPr>
        <p:spPr>
          <a:xfrm flipV="1">
            <a:off x="6934320" y="2666520"/>
            <a:ext cx="2880" cy="1295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699240" y="243828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60: 700,000 Cub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3"/>
          <p:cNvSpPr/>
          <p:nvPr/>
        </p:nvSpPr>
        <p:spPr>
          <a:xfrm flipV="1">
            <a:off x="5485680" y="3352680"/>
            <a:ext cx="3240" cy="6098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5245200" y="3200400"/>
            <a:ext cx="348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07: us and Japan sign gentlemen'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6"/>
          <p:cNvSpPr/>
          <p:nvPr/>
        </p:nvSpPr>
        <p:spPr>
          <a:xfrm flipV="1">
            <a:off x="2819520" y="685800"/>
            <a:ext cx="2880" cy="32767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561760" y="457200"/>
            <a:ext cx="65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87:alian contract labor laws of 1885,87,88, and 91 prohibits immigrants from entering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42:23Z</dcterms:created>
  <dc:creator>tech2</dc:creator>
  <dc:description/>
  <dc:language>en-US</dc:language>
  <cp:lastModifiedBy>tech2</cp:lastModifiedBy>
  <dcterms:modified xsi:type="dcterms:W3CDTF">2009-03-11T16:50:22Z</dcterms:modified>
  <cp:revision>2</cp:revision>
  <dc:subject/>
  <dc:title>Slide 1</dc:title>
</cp:coreProperties>
</file>